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2BC3-65C6-4518-BC54-00C9E7F8A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reak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athro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y favorites?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ubmit vortal to wiki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ational Parks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y favorites?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dvanced search for search engin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ollective knowledg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K Questions! Please!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alamanders not new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olleges or Universitie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afari not app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alamanders not new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olleges or Universitie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afari not app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ass not music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rtin luther not king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how Google schola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y favorites?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y favorites?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8B5-2B11-4A0A-B7F1-53CCD136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678-1648-4AC6-BF85-2B6B834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59E-9170-468E-B2EA-6B5D729E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DA8-4353-4998-B356-CC24659C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1D60-259C-4B92-8627-D78BF1CF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B20E-4FCA-4E83-8DDC-B864E1A7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5714-F330-4CAB-98BE-0CF8E4A0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D952-0740-4FB3-A646-F631AE7A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41A6-9B41-4601-B2FE-283969F3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5736-D65C-4117-9FF3-D1ADC3B5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3610-98A3-41C1-A63E-F424EE75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F92-A585-49F1-AB5F-54A7D69E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CE82-4516-4928-8355-535F8014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7FFB-FF5D-473F-96F8-0A27B87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2FD0-3487-4E60-B0D6-D63C0DFD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6945-7B8B-48F3-8FD3-49F3AD21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839D-9629-4109-9056-4404DE73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267-1BB7-417F-8A0A-6F231F83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3F8-B379-48C8-8A34-D9C6633D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F68-EC8B-42D3-A051-3A714562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F9C-B500-473B-8B31-6B02CE85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8D8-2FC8-495E-A009-9D7FD439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8AF-C6CC-4E0C-AF9A-11CBAE2C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B2C-2BC9-49B2-97EB-A978825E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7924680" y="0"/>
              <a:ext cx="121932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5257800" y="1752480"/>
              <a:ext cx="38098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839080" y="0"/>
              <a:ext cx="304920" cy="12193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39080" y="1219320"/>
              <a:ext cx="304920" cy="1218960"/>
            </a:xfrm>
            <a:prstGeom prst="rect">
              <a:avLst/>
            </a:prstGeom>
            <a:solidFill>
              <a:srgbClr val="4d4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839080" y="2438280"/>
              <a:ext cx="304920" cy="12193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839080" y="3657600"/>
              <a:ext cx="304920" cy="12193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B20A-12B6-40E6-AF74-1EA80959C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"/>
            <p:cNvSpPr/>
            <p:nvPr/>
          </p:nvSpPr>
          <p:spPr>
            <a:xfrm>
              <a:off x="7620120" y="0"/>
              <a:ext cx="152388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39080" y="0"/>
              <a:ext cx="304920" cy="21337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39080" y="2133720"/>
              <a:ext cx="304920" cy="1371600"/>
            </a:xfrm>
            <a:prstGeom prst="rect">
              <a:avLst/>
            </a:prstGeom>
            <a:solidFill>
              <a:srgbClr val="4d4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839080" y="3505320"/>
              <a:ext cx="304920" cy="15238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2819520" y="3429000"/>
              <a:ext cx="571500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F01-2F87-45AA-B36A-19440A9CB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Bookman Old Sty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Font typeface="Bookman Old Style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vetter@sau56.org" TargetMode="External"/><Relationship Id="rId2" Type="http://schemas.openxmlformats.org/officeDocument/2006/relationships/hyperlink" Target="http://www.somersworthhslmc.wikispaces.com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ippy.com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dogpile.com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monstercrawler.com/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mamma.com/" TargetMode="External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hyperlink" Target="http://www.pandia.com/powersearch/" TargetMode="External"/><Relationship Id="rId14" Type="http://schemas.openxmlformats.org/officeDocument/2006/relationships/hyperlink" Target="http://www.pandia.com/powersearch/" TargetMode="External"/><Relationship Id="rId15" Type="http://schemas.openxmlformats.org/officeDocument/2006/relationships/hyperlink" Target="http://www.pandia.com/powersearch/" TargetMode="External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stdirs.com/sitemap.php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dir.yahoo.com/?skw=yahoo+subject+directory" TargetMode="External"/><Relationship Id="rId4" Type="http://schemas.openxmlformats.org/officeDocument/2006/relationships/hyperlink" Target="http://dir.yahoo.com/?skw=yahoo+subject+directory" TargetMode="External"/><Relationship Id="rId5" Type="http://schemas.openxmlformats.org/officeDocument/2006/relationships/hyperlink" Target="http://dir.yahoo.com/?skw=yahoo+subject+directory" TargetMode="External"/><Relationship Id="rId6" Type="http://schemas.openxmlformats.org/officeDocument/2006/relationships/hyperlink" Target="http://dir.yahoo.com/?skw=yahoo+subject+directory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specials.msn.com/" TargetMode="External"/><Relationship Id="rId9" Type="http://schemas.openxmlformats.org/officeDocument/2006/relationships/hyperlink" Target="http://specials.msn.com/" TargetMode="External"/><Relationship Id="rId10" Type="http://schemas.openxmlformats.org/officeDocument/2006/relationships/hyperlink" Target="http://specials.msn.com/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www.pandia.com/plus/" TargetMode="External"/><Relationship Id="rId13" Type="http://schemas.openxmlformats.org/officeDocument/2006/relationships/hyperlink" Target="http://www.pandia.com/plus/" TargetMode="External"/><Relationship Id="rId14" Type="http://schemas.openxmlformats.org/officeDocument/2006/relationships/hyperlink" Target="http://www.pandia.com/plus/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ipl.org/" TargetMode="External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cademicinfo.net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digital-librarian.com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infomine.ucr.edu/" TargetMode="External"/><Relationship Id="rId7" Type="http://schemas.openxmlformats.org/officeDocument/2006/relationships/image" Target="../media/image3.png"/><Relationship Id="rId8" Type="http://schemas.openxmlformats.org/officeDocument/2006/relationships/hyperlink" Target="file:///../Local%20Settings/Temp/TCD70.tmp/http/www.ipl.or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www.lakesregion-nh.com/" TargetMode="External"/><Relationship Id="rId11" Type="http://schemas.openxmlformats.org/officeDocument/2006/relationships/hyperlink" Target="http://www.lakesregion-nh.com/" TargetMode="External"/><Relationship Id="rId12" Type="http://schemas.openxmlformats.org/officeDocument/2006/relationships/hyperlink" Target="http://www.lakesregion-nh.com/" TargetMode="External"/><Relationship Id="rId13" Type="http://schemas.openxmlformats.org/officeDocument/2006/relationships/hyperlink" Target="http://www.lakesregion-nh.com/" TargetMode="External"/><Relationship Id="rId14" Type="http://schemas.openxmlformats.org/officeDocument/2006/relationships/image" Target="../media/image3.png"/><Relationship Id="rId15" Type="http://schemas.openxmlformats.org/officeDocument/2006/relationships/hyperlink" Target="http://vlib.org/" TargetMode="External"/><Relationship Id="rId16" Type="http://schemas.openxmlformats.org/officeDocument/2006/relationships/hyperlink" Target="http://vlib.org/" TargetMode="External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duref.org/" TargetMode="External"/><Relationship Id="rId3" Type="http://schemas.openxmlformats.org/officeDocument/2006/relationships/hyperlink" Target="http://www.eduref.org/" TargetMode="External"/><Relationship Id="rId4" Type="http://schemas.openxmlformats.org/officeDocument/2006/relationships/hyperlink" Target="http://www.eduref.org/" TargetMode="External"/><Relationship Id="rId5" Type="http://schemas.openxmlformats.org/officeDocument/2006/relationships/hyperlink" Target="http://www.eduref.org/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expedia.com/" TargetMode="External"/><Relationship Id="rId8" Type="http://schemas.openxmlformats.org/officeDocument/2006/relationships/image" Target="../media/image3.png"/><Relationship Id="rId9" Type="http://schemas.openxmlformats.org/officeDocument/2006/relationships/hyperlink" Target="http://www.eol.org/" TargetMode="External"/><Relationship Id="rId10" Type="http://schemas.openxmlformats.org/officeDocument/2006/relationships/hyperlink" Target="http://www.eol.org/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us.imdb.com/" TargetMode="External"/><Relationship Id="rId13" Type="http://schemas.openxmlformats.org/officeDocument/2006/relationships/hyperlink" Target="http://us.imdb.com/" TargetMode="External"/><Relationship Id="rId14" Type="http://schemas.openxmlformats.org/officeDocument/2006/relationships/hyperlink" Target="http://us.imdb.com/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www.kbb.com/" TargetMode="External"/><Relationship Id="rId17" Type="http://schemas.openxmlformats.org/officeDocument/2006/relationships/hyperlink" Target="http://www.kbb.com/" TargetMode="External"/><Relationship Id="rId18" Type="http://schemas.openxmlformats.org/officeDocument/2006/relationships/image" Target="../media/image3.png"/><Relationship Id="rId19" Type="http://schemas.openxmlformats.org/officeDocument/2006/relationships/hyperlink" Target="http://www.monster.com/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www.fool.com/" TargetMode="External"/><Relationship Id="rId22" Type="http://schemas.openxmlformats.org/officeDocument/2006/relationships/hyperlink" Target="http://www.fool.com/" TargetMode="External"/><Relationship Id="rId23" Type="http://schemas.openxmlformats.org/officeDocument/2006/relationships/image" Target="../media/image3.png"/><Relationship Id="rId24" Type="http://schemas.openxmlformats.org/officeDocument/2006/relationships/hyperlink" Target="http://www.mysimon.com/" TargetMode="External"/><Relationship Id="rId25" Type="http://schemas.openxmlformats.org/officeDocument/2006/relationships/image" Target="../media/image3.png"/><Relationship Id="rId26" Type="http://schemas.openxmlformats.org/officeDocument/2006/relationships/hyperlink" Target="http://vos.ucsb.edu/" TargetMode="External"/><Relationship Id="rId27" Type="http://schemas.openxmlformats.org/officeDocument/2006/relationships/hyperlink" Target="http://vos.ucsb.edu/" TargetMode="External"/><Relationship Id="rId28" Type="http://schemas.openxmlformats.org/officeDocument/2006/relationships/hyperlink" Target="http://vos.ucsb.edu/" TargetMode="External"/><Relationship Id="rId29" Type="http://schemas.openxmlformats.org/officeDocument/2006/relationships/image" Target="../media/image3.png"/><Relationship Id="rId30" Type="http://schemas.openxmlformats.org/officeDocument/2006/relationships/hyperlink" Target="http://www.webmd.com/" TargetMode="External"/><Relationship Id="rId31" Type="http://schemas.openxmlformats.org/officeDocument/2006/relationships/hyperlink" Target="http://www.webmd.com/" TargetMode="External"/><Relationship Id="rId32" Type="http://schemas.openxmlformats.org/officeDocument/2006/relationships/image" Target="../media/image3.png"/><Relationship Id="rId33" Type="http://schemas.openxmlformats.org/officeDocument/2006/relationships/hyperlink" Target="http://www.rcdb.com/" TargetMode="External"/><Relationship Id="rId34" Type="http://schemas.openxmlformats.org/officeDocument/2006/relationships/hyperlink" Target="http://www.rcdb.com/" TargetMode="External"/><Relationship Id="rId35" Type="http://schemas.openxmlformats.org/officeDocument/2006/relationships/hyperlink" Target="http://www.rcdb.com/" TargetMode="External"/><Relationship Id="rId36" Type="http://schemas.openxmlformats.org/officeDocument/2006/relationships/hyperlink" Target="http://www.rcdb.com/" TargetMode="External"/><Relationship Id="rId37" Type="http://schemas.openxmlformats.org/officeDocument/2006/relationships/slideLayout" Target="../slideLayouts/slideLayout3.xml"/><Relationship Id="rId3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thacalibrary.com/sp/subjects/guide.php?subject=boolean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boolify.org/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lexa.com/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xalead.com/search" TargetMode="External"/><Relationship Id="rId6" Type="http://schemas.openxmlformats.org/officeDocument/2006/relationships/hyperlink" Target="http://www.youtube.com/watch?v=BNHR6IQJGZs&amp;feature=related" TargetMode="External"/><Relationship Id="rId7" Type="http://schemas.openxmlformats.org/officeDocument/2006/relationships/hyperlink" Target="http://www.youtube.com/watch?v=BNHR6IQJGZs&amp;feature=related" TargetMode="External"/><Relationship Id="rId8" Type="http://schemas.openxmlformats.org/officeDocument/2006/relationships/hyperlink" Target="http://www.youtube.com/watch?v=BNHR6IQJGZs&amp;feature=related" TargetMode="Externa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9360" y="57146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Facilitator: Kathy Vett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                        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1"/>
              </a:rPr>
              <a:t>kvetter@sau56.org</a:t>
            </a:r>
            <a:br>
              <a:rPr sz="1400"/>
            </a:b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www.somersworthhslmc.wikispaces.com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SD – Summer Tech Institut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July 12 &amp; 13, 2010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fo Guru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Meta-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14240" y="2133720"/>
            <a:ext cx="4876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Yippy.c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4"/>
              </a:rPr>
              <a:t>Dogpile.com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6"/>
              </a:rPr>
              <a:t>Monstercrawler.c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8"/>
              </a:rPr>
              <a:t>Mamma.c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609480" y="2057400"/>
            <a:ext cx="1600200" cy="669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5791320" y="2133720"/>
            <a:ext cx="1676160" cy="858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5562720" y="3886200"/>
            <a:ext cx="2057400" cy="96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2"/>
          <a:stretch/>
        </p:blipFill>
        <p:spPr>
          <a:xfrm>
            <a:off x="380880" y="3048120"/>
            <a:ext cx="1981440" cy="67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71600" y="4876920"/>
            <a:ext cx="5638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or a List of metasearch engines visit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3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4"/>
              </a:rPr>
              <a:t>www.pandia.com/powersearch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38080" y="3276720"/>
            <a:ext cx="28195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ast result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Get an overview of several search engine results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May show results from search engines you don’t normally use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3505320"/>
            <a:ext cx="2819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imited result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Many don’t query Google which has largest database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Meta-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Search Engine Link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Recommended Search Engines – U.C. Berkeley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http://www.lib.berkeley.edu/TeachingLib/Guides/Internet/SearchEngines.htm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Search Poster –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yce Valenza, Springfield Township High School Libraria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http://springfieldlibrary.wikispaces.com/Search+Poster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Subject Directories, Portals, Vortals, &amp; Databases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aintained by human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ontent is selected for inclusion by human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ontent usually annotated with description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Subject Directori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7" name=""/>
          <p:cNvSpPr/>
          <p:nvPr/>
        </p:nvSpPr>
        <p:spPr>
          <a:xfrm>
            <a:off x="1011960" y="5410080"/>
            <a:ext cx="66942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or a list of directories go to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"/>
              </a:rPr>
              <a:t>http://www.bestdirs.com/sitemap.ph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t’s a little overwhelming  - try clicking on Popular Directorie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Yahoo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4"/>
              </a:rPr>
              <a:t>dir.yahoo.com/?skw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5"/>
              </a:rPr>
              <a:t>=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6"/>
              </a:rPr>
              <a:t>yahoo+subject+directory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SN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9"/>
              </a:rPr>
              <a:t>specials.msn.com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0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andia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3"/>
              </a:rPr>
              <a:t>www.pandia.com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4"/>
              </a:rPr>
              <a:t>/plus/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pl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6"/>
              </a:rPr>
              <a:t>http://ipl.org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Open Directory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ttp://www.dmoz.org/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eaucoup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 http://www.beaucoup.com/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Portals (gateways)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Academic Informatio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4"/>
              </a:rPr>
              <a:t>Digital Libraria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6"/>
              </a:rPr>
              <a:t>Infomin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8"/>
              </a:rPr>
              <a:t>Internet Public Library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10"/>
              </a:rPr>
              <a:t>Lakes Region NH</a:t>
            </a:r>
            <a:r>
              <a:rPr b="0" lang="en-US" sz="4400" spc="-1" strike="noStrike" u="sng">
                <a:solidFill>
                  <a:srgbClr val="4d4d4d"/>
                </a:solidFill>
                <a:uFillTx/>
                <a:latin typeface="Bookman Old Style"/>
                <a:hlinkClick r:id="rId11"/>
              </a:rPr>
              <a:t>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12"/>
              </a:rPr>
              <a:t>http://www.lakesregion-nh.com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1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15"/>
              </a:rPr>
              <a:t>www.virtual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16"/>
              </a:rPr>
              <a:t> Library_x000b_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Vortals (subject specific)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Educator's Reference Desk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3"/>
              </a:rPr>
              <a:t>http://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4"/>
              </a:rPr>
              <a:t>www.eduref.org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7"/>
              </a:rPr>
              <a:t>Expedi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9"/>
              </a:rPr>
              <a:t>Encyclopedia of Life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10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http://www.eol.org/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12"/>
              </a:rPr>
              <a:t>Internet Movie Database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13"/>
              </a:rPr>
              <a:t>http://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14"/>
              </a:rPr>
              <a:t>us.imdb.com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16"/>
              </a:rPr>
              <a:t>Kelley Blue Book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17"/>
              </a:rPr>
              <a:t>http://www.kbb.com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19"/>
              </a:rPr>
              <a:t>Monste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21"/>
              </a:rPr>
              <a:t>Motley Foo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22"/>
              </a:rPr>
              <a:t>http://www.fool.com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24"/>
              </a:rPr>
              <a:t>MySimon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26"/>
              </a:rPr>
              <a:t>Voice of the Shuttle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27"/>
              </a:rPr>
              <a:t>http://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28"/>
              </a:rPr>
              <a:t>vos.ucsb.edu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30"/>
              </a:rPr>
              <a:t>WebMD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31"/>
              </a:rPr>
              <a:t>http://www.webmd.com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33"/>
              </a:rPr>
              <a:t>Roller Coaster Database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34"/>
              </a:rPr>
              <a:t>http://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35"/>
              </a:rPr>
              <a:t>www.rcdb.com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36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581280"/>
            <a:ext cx="28195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Organization of material may be easier to navigate/search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uman touch- higher quality results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oints to resources on the Invisible Web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3276720"/>
            <a:ext cx="2819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ad link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-commerce bias?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ould be outdated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imited result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Directories, Databases, Portals and Vortal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Search Tip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Search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Google tip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Advanced Search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ost search engines and databases have options for advanced search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them!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arch Engin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arch tips and tool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Organizing information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fo Guru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4600" y="2361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AND, OR, NO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+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486320" cy="3772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168280" y="1903320"/>
            <a:ext cx="40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trawberry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anilla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"/>
          <p:cNvSpPr/>
          <p:nvPr/>
        </p:nvSpPr>
        <p:spPr>
          <a:xfrm>
            <a:off x="2139120" y="1903320"/>
            <a:ext cx="44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trawberry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anilla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44578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1903320"/>
            <a:ext cx="44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trawberry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anilla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4575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oolean Searching</a:t>
            </a:r>
            <a:br>
              <a:rPr sz="3200"/>
            </a:br>
            <a:r>
              <a:rPr b="0" lang="en-US" sz="32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http://www.ithacalibrary.com/sp/subjects/guide.php?subject=boolean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d4d4d"/>
                </a:solidFill>
                <a:uFillTx/>
                <a:latin typeface="Bookman Old Style"/>
                <a:hlinkClick r:id="rId4"/>
              </a:rPr>
              <a:t>Boolify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www.boolify.or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Searching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lamanders not new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olleges or Universiti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fari not appl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ass not music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artin luther not kin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More Search Tip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arenthesis “to be or not to be”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top words  - and or not is th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* to truncat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ontrol F or Edit&gt;Find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ink:  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te: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Google Tip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ore Google tips @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springfieldlibrary.wikispaces.com/Google+Search+Option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web.appstorm.net/roundups/tips-tricks/25-awesome-google-search-tips-and-trick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visible Web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formation in database files that are not indexed by search engines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ost subscription databas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Google Scholar is able to search some of the invisible web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visible Web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subject directories like Internet Public Librar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“database” as a search term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rowse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Read web files differentl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ave different add-ons and option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visible Web tool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incywincy.com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oalster.worldcat.or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pen archive digital resource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www.somersworthhslmc.wikispaces.com/Research+Databas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redibility/Authorit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ccuracy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liabilit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levance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ources behind the tex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cop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redibility/Authority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o wrote/created it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at are the author(s) credentials? Education? Area of expertise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ook for  - about us, contact us, FAQ, site map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7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s there a way to contact the creator of the website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7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o other sites link to this site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ry doing a Google search preceding the URL with link: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xampl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:http://www.eol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2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ccuracy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Based on your knowledge, is the information accurate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an you verify the information in other sources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o you notice any spelling or grammatical errors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5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liability/objectivity-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at is the PURPOSE of the publication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oes it try to persuade, sell, inform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oes it present a particular point of view or bias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8" name=""/>
          <p:cNvSpPr/>
          <p:nvPr/>
        </p:nvSpPr>
        <p:spPr>
          <a:xfrm>
            <a:off x="1919160" y="99072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levance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oes the information directly support my hypothesis/thesis or help to answer my question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1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ate (currency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en was the website last created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en was it updated or revised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epending on the subject matter maybe it doesn’t matter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4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ources behind the text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51"/>
              </a:spcBef>
              <a:buSzPct val="112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What sources did the author rely on?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51"/>
              </a:spcBef>
              <a:buSzPct val="112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re the sources reliable and credible?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ip: Try linking to or searching for sources listed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7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Sites to Evaluate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www.weathergraphics.com/tim/fisher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nytimes-se.com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martinlutherking.or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aste the URL into the search box of 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http://www.alexa.com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and click “get details”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e the Wayback Machine to see what the website looked like in the past. http://web.archive.org/collections/web.htm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ook up the authors name in a search engine. Don’t forget to use quotes, i.e. “John Smith” Also try “John * Smith”  - the * will stand for the middle name or initial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More Website Evaluation Tips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rowsers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refox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fari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Google Chrom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Organizing Web Resourc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ocial Bookmarkin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iigo.c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elicious.c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Wiki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bwork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ikispace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446120"/>
            <a:ext cx="8001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Finding Information on the Internet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ibrary-University of Californ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Web. 11 July 2010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http://www.lib.berkeley.edu/TeachingLib/Guides/Internet/FindIn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.html&gt;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es-Ramoms, Melanie. "Bare Bones 101: A Basic Tutorial on Search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versity of South Caroli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Web. 11 July 2010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http://www.sc.edu/beaufort/library/pages/bones/bones.shtml&gt;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derson, John, and Jennifer Strickland. "Research Guides - Boole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hica College - Research Guides-Boolean Log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thic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Library. Web. 11 July 2010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http://www.ithacalibrary.com/sp/subjects/guide.php?subject=b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n&gt;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enza, Joyce Kasman., Emily Valenza, and Joyce Kasman. Valenza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wer Tools Recharged: 125+ Essential Forms and Presenta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Your School Library Information 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hicago: Americ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 Association, 2004. Print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Search Engin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and Subject Directories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dividual Search Engin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ta-Search Engin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ubject Directori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762120" cy="741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dividual 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piders” or “robots” scan web pages and index words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Rank pages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requency of keywords and phrase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opularity (# links pointing to the sit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086600" y="2895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dividual 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5486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Yahoo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in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d4d4d"/>
                </a:solidFill>
                <a:uFillTx/>
                <a:latin typeface="Bookman Old Style"/>
                <a:hlinkClick r:id="rId5"/>
              </a:rPr>
              <a:t>Exalead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8769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ow does Google Work?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7"/>
              </a:rPr>
              <a:t>www.youtube.com/watch?v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8"/>
              </a:rPr>
              <a:t>=BNHR6IQJGZs&amp;feature=related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dividual 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3200400"/>
            <a:ext cx="28195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uge amount of web files are indexed so chances of finding something obscure is good 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More relevant pages often moved to the top of the result list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733920"/>
            <a:ext cx="2971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ifficult to weed through huge amount of result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Good search strategy skills needed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Meta-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create their own databas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rawl” other individual search engines and compile result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kvetter</cp:lastModifiedBy>
  <dcterms:modified xsi:type="dcterms:W3CDTF">2010-07-13T10:28:09Z</dcterms:modified>
  <cp:revision>33</cp:revision>
  <dc:subject/>
  <dc:title>Facilitator: Kathy Vetter                            kvetter@sau56.org www.somersworthhslmc.wikispaces.co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51033</vt:lpwstr>
  </property>
</Properties>
</file>